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AD8710-8074-48C6-8AA0-9444D0EEB8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6CB91-7551-4F20-AB94-8EBCB8B0A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E085F2-2927-41AB-B1FB-132FB82B99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BF7270-8008-4DCC-94A8-50FC3E2865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C49C59-5EB7-4499-9358-BFDE31CC9F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BF115A-DB08-4470-A12C-A38D8E21D1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E5D537-F67A-47F5-94B5-55D47F1DD7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62D1B0-4085-4B02-8126-00DB3A718F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0FE1E5-9A8C-4DC5-B380-751065A2C2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D61D41-F814-40EE-BFF6-9EC129551D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9FFDF7-E79A-4A07-BC01-075868281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A340E-6A51-422F-B4ED-C30220554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A1620-1D16-4641-ACB2-15F0E2C18B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77FFB-E83B-409E-9917-9818B4A93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C8D0B8-482E-4707-8DB9-03254F6318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57F275-F5DD-4B7E-812A-43F8487F72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D67D7E-DC12-46C4-BF17-65DA58C2D4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F8D35-DDFC-43E6-A3AC-8378CAA8D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46AE4-349B-4D65-A576-7372ECC3B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DE424-BD62-4415-8999-9A3F58B01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B5F6E-8D42-4B76-A53B-3FC6B7F6E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94A71-D048-4351-B84F-BF77DA1C0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7984A-382B-40EC-90F2-A7F77E57C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0580F-20D8-4C92-82CB-FB2F46372B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72413-48ED-4908-9796-C5705FC2AD04}"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0E24C-30BC-4B74-BE14-75015E41FC6B}"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352320"/>
            <a:ext cx="7543800" cy="26672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iSquad - Session 1 of 1</a:t>
            </a: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3" name="PlaceHolder 2"/>
          <p:cNvSpPr>
            <a:spLocks noGrp="1"/>
          </p:cNvSpPr>
          <p:nvPr>
            <p:ph type="title"/>
          </p:nvPr>
        </p:nvSpPr>
        <p:spPr>
          <a:xfrm>
            <a:off x="1447920" y="1066680"/>
            <a:ext cx="71625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Get Going With Atomic Learning</a:t>
            </a:r>
            <a:endParaRPr b="1" lang="en-US" sz="4400" spc="-1" strike="noStrike">
              <a:solidFill>
                <a:srgbClr val="5d2204"/>
              </a:solidFill>
              <a:latin typeface="Arial"/>
            </a:endParaRPr>
          </a:p>
        </p:txBody>
      </p:sp>
      <p:pic>
        <p:nvPicPr>
          <p:cNvPr id="94" name="" descr=""/>
          <p:cNvPicPr/>
          <p:nvPr/>
        </p:nvPicPr>
        <p:blipFill>
          <a:blip r:embed="rId1"/>
          <a:stretch/>
        </p:blipFill>
        <p:spPr>
          <a:xfrm>
            <a:off x="1600200" y="4092480"/>
            <a:ext cx="6705720" cy="111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etting Started</a:t>
            </a:r>
            <a:endParaRPr b="1" lang="en-US" sz="4400" spc="-1" strike="noStrike">
              <a:solidFill>
                <a:srgbClr val="212164"/>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I will give you your login information.</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en you will login and take the next 20 minutes to find and explore a tutorial of something you have always wanted to know how to do.</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en you are done we will share the tutorials we have found.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ork Time</a:t>
            </a:r>
            <a:endParaRPr b="1" lang="en-US" sz="4400" spc="-1" strike="noStrike">
              <a:solidFill>
                <a:srgbClr val="212164"/>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Go to the Atomic Learning website and log in.</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arch for a tutorial that interest them.</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View the Tutorial</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hare their findings</a:t>
            </a:r>
            <a:endParaRPr b="0" lang="en-US" sz="3200" spc="-1" strike="noStrike">
              <a:solidFill>
                <a:srgbClr val="212164"/>
              </a:solidFill>
              <a:latin typeface="Arial"/>
            </a:endParaRPr>
          </a:p>
          <a:p>
            <a:pPr lvl="1" marL="743040" indent="-28584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12164"/>
                </a:solidFill>
                <a:latin typeface="Arial"/>
              </a:rPr>
              <a:t>What did you learn from the tutorial?</a:t>
            </a:r>
            <a:endParaRPr b="0" lang="en-US" sz="28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hare their views on the usefulness of Atomic Learning.</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Shar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4"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Ask selected participants to share particularly good examples of their work.</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Lead a discussion about how this work addresses the focusing questions.</a:t>
            </a:r>
            <a:endParaRPr b="0" lang="en-US" sz="3200" spc="-1" strike="noStrike">
              <a:solidFill>
                <a:srgbClr val="212164"/>
              </a:solidFill>
              <a:latin typeface="Arial"/>
            </a:endParaRPr>
          </a:p>
        </p:txBody>
      </p:sp>
      <p:sp>
        <p:nvSpPr>
          <p:cNvPr id="116"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7"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8" name="PlaceHolder 1"/>
          <p:cNvSpPr>
            <a:spLocks noGrp="1"/>
          </p:cNvSpPr>
          <p:nvPr>
            <p:ph type="title"/>
          </p:nvPr>
        </p:nvSpPr>
        <p:spPr>
          <a:xfrm>
            <a:off x="151920" y="-36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164"/>
                </a:solidFill>
                <a:latin typeface="Arial"/>
              </a:rPr>
              <a:t>How does this work address the </a:t>
            </a:r>
            <a:br>
              <a:rPr sz="3600"/>
            </a:br>
            <a:r>
              <a:rPr b="1" lang="en-US" sz="3600" spc="-1" strike="noStrike">
                <a:solidFill>
                  <a:srgbClr val="212164"/>
                </a:solidFill>
                <a:latin typeface="Arial"/>
              </a:rPr>
              <a:t>questions that began the session?</a:t>
            </a:r>
            <a:endParaRPr b="1" lang="en-US" sz="3600" spc="-1" strike="noStrike">
              <a:solidFill>
                <a:srgbClr val="212164"/>
              </a:solidFill>
              <a:latin typeface="Arial"/>
            </a:endParaRPr>
          </a:p>
        </p:txBody>
      </p:sp>
      <p:sp>
        <p:nvSpPr>
          <p:cNvPr id="119"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Answers</a:t>
            </a: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endParaRPr b="0" lang="en-US" sz="2800" spc="-1" strike="noStrike">
              <a:solidFill>
                <a:srgbClr val="212164"/>
              </a:solidFill>
              <a:latin typeface="Arial"/>
            </a:endParaRPr>
          </a:p>
          <a:p>
            <a:pPr marL="343080" indent="0">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
        <p:nvSpPr>
          <p:cNvPr id="120"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ave you ever needed a tutorial on the spot and didn’t know where to find one?</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y is it important to have easy access to tutorials on the Internet?</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ow can I use an online tutorial resource whenever I need to do so?</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99" name="PlaceHolder 2"/>
          <p:cNvSpPr>
            <a:spLocks noGrp="1"/>
          </p:cNvSpPr>
          <p:nvPr>
            <p:ph/>
          </p:nvPr>
        </p:nvSpPr>
        <p:spPr>
          <a:xfrm>
            <a:off x="685800" y="2133720"/>
            <a:ext cx="777240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Have you ever been in a spot where you needed to know how to do something at a precise moment?</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Having access to tutorials at the exact time that you need it is imperative to working successfully with software in the classroom and at home.  It is important to know how all the programs on your computer work and how to utilize them.</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In speaking with some of you I’ve heard that you get frustrated when you do not know how to do something</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Your teachers have been telling me that they get frustrated when you do not know something.</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Your teachers have been telling me that they get frustrated and the lessons get disrupted when students do not know how to execute a particular operation such as inserting a picture into a document or changing the size.</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atch me as I show you how to access an online tutorial source and view an available tutorial.</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Now it is your turn to try.</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Let’s go to the Atomic Learning site and explore it.</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ww.atomiclearning.com</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YCDOE</cp:lastModifiedBy>
  <dcterms:modified xsi:type="dcterms:W3CDTF">2007-11-16T19:17:42Z</dcterms:modified>
  <cp:revision>8</cp:revision>
  <dc:subject/>
  <dc:title>Workshop Title</dc:title>
</cp:coreProperties>
</file>